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6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1A474C-A60C-4DBF-BF7A-CB1FA8A9966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C98F9F-54D1-4DCD-9CBA-CF2136F6E48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B017E4-38F4-4149-88D5-8B36AE6B922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0CB049-BEB6-4553-82E8-87EBA578DD3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D1D854-C9F7-4902-9FAB-0035630E280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B0AA60-CFA2-49F5-B29A-5DCE5CBE244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B78EF0-F08D-4991-BFBA-29A9328B27F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3FAA40-8A65-433F-AC74-2E4DCA30318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028A0B-C149-49CC-A3C5-52657220E8B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E86552-F740-411A-8A2B-77843CF8269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06E037-80D4-4C06-9812-8787D8DC6B6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BA9175-07B5-4DC1-BDBD-87759F93E73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099672-C908-42A4-BCE9-B85CFD56124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223356-29F6-47B2-86F8-8AEFFA41D0C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2BC371-8081-4D9E-8347-3CDCF868459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A4BA-31BE-4A2F-9013-F13E45BC4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25E3-772D-4077-9B1F-376CB916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BBBFD-9417-437B-BD13-95422738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BF939-646C-431D-8F53-9137D4FC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BD655-F9D6-4BD5-B863-851CF7CB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22797-0C0C-476E-BDC4-7D5FDCB3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9D338-B858-4AB6-A233-20B92EA6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B56E2-4AFB-4A75-B2A7-D85F91FE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F3570-7EE2-412A-AB29-0FB5684F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D3217-31BE-43E4-9311-9E4C472BF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B5AE11-AE09-4D2F-87FF-FB7D77151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5E24E-C8F0-454E-B785-617BAD03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30C0-C97B-4A5E-AD52-DB46F2C8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D74F0F-5B78-40A8-8F45-43D930C4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905A34-7400-4366-969A-1C13135B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B8E27E-950A-4C0B-9BE0-DD79F53A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65303-8C80-40C4-9C39-93CF9BA0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8E731C-619B-4A87-8358-2030B0D6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66B5C-CAA5-4EE4-9E83-2ED42F25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59A778-0E7D-4A9A-B534-D85AB774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B85F03-575A-4543-B440-50F9AF7A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9FDEA-14CE-49B2-9E09-CD03E1E5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88D4CC-6FF8-41C8-B2C9-9084E75D5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5000-47D6-4A33-B7FB-5C2F54B7E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CBE8D-FD82-4B7B-AD72-2FB39E01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D62CD-C231-44AA-9ECB-AADBF698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89758-BF27-41C8-8244-9936E568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22F4E-22B7-4299-99A8-82FE5354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4F142-9A86-4CA1-8869-AE100342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FDA9B-AE86-41B4-8E41-69CBAA7B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117C0-E9C7-4BA0-A2B9-103D85C5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1878A-B738-45A5-83D6-EFE65B85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37BEA-CF10-4653-8B95-3E1C2C4A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8D4CD-2547-4CE7-A282-83FFC30F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D102-4CD3-4455-8459-C5B0DAB6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7B173-3829-4198-8B8E-548E917B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E1F61-F12E-47AE-B50D-C09DB9499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5BB69-2725-4D5B-9FD0-164CA907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FD8C-AAFE-4221-82DD-9330988A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847F-1475-41DF-B218-CF83F50E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57B8-DFC8-490B-A398-4E7DD12E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FC72-43D9-4829-A51D-522A717C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674A-2CEE-4652-A520-3842193A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702A-1630-4383-853B-0CA5A8D2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E9CC-4B21-4FBB-9661-9ECC4ACE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B057-8C88-40B3-8A0E-EADD2EA8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57AF-EAE1-4948-ACA6-2E062922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5AA5-7034-4948-8F2D-766A91A2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4801-ACB2-46EE-AECC-106CB7509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D1DC-61CA-4B52-8F35-08DE5BAA6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5B062-E192-4DB1-B51F-117FA60B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65E29-6BAB-4748-9332-3D66AFC3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9950D-4BAC-42E5-98DD-BECBEFEA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34188-BB89-48C6-8E55-5052DAA3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1A9D6-D09E-40E7-B388-1925E67D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8269-6A6A-4FB7-A965-9B88363E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745A7-CAAE-4FAF-9C71-39075B18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5630B-212E-426A-9D5A-70899F65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B410D-8650-4CD0-9F36-7D910A1B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7B09A-896B-4C7D-A5EA-C8D37292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21261-601F-492C-B0C8-CB690C13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B5AD6-6C89-4BAA-AED6-C558BBDAD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F6F2D-701B-47C6-9FC4-AE0D9F53A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3A6F3-068D-4A29-8E67-1ED04351D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D0BFE-7385-45C7-B31D-5066B1BC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9B0F9-86DF-40FD-AF6D-604C3B4D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0132-8FAE-49BA-B5E6-31F62D90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2C8A9-E332-479C-A096-13A15C88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1FA49-EE56-4E23-8DF1-7A5CF4C8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DD6B2-AE9B-486A-B0E0-2A9E460F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C7854-5622-47F2-A7F8-65656FAF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221FC-D2BC-4E65-A51D-4A7C026A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637A6-37D6-41A4-B3EE-5B4A6003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3E4F2-F957-427D-8883-999CA789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A637F-B899-472D-A763-51C7BD48F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2704A-F414-4A79-8555-9475476E1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E16F9-64DE-40FA-9B3C-94E20D9B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DB17-F5C2-4323-A241-8AE81BEA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DD70A-5F34-4AC1-B647-44372956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242CC-C189-48F5-9469-6AE1139F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11928-49CE-4769-B936-A0974118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D2131-E562-45F0-97B5-96CF5E30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69EDF-D716-40AC-9217-1C8FEC38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A7AFC-FD4F-484F-9D1F-C3E65FD7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9B031-EB77-42A7-A4D5-459F6BA8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22E1C-CAE6-4A07-A165-AC4132DC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6E8FF-BD70-48CF-874A-E3955DEC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3EA2F-69EF-4989-A8C2-246C5301F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83C3-D988-463A-AB9C-3DED3B95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FA6FA-7C3A-4C75-84A5-2EE383F3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941B4-A71D-41AF-8E76-CC3F86225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41AB0-D4EA-4051-B412-0168F72E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A2515-DA93-4A58-9A89-C552042C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49E22-F28E-4611-9430-5A61B097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B8CA7-B6C9-4CDC-B03C-F586E80B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B0EF9-E53E-4D62-8EAE-00A6025E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395C7-957A-4A07-BAB2-92931AF6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3C26D-FE99-4A51-9887-9BCF2549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14B48-55D7-4A71-9C66-4B327859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771F-BAF5-43F8-B9D8-5C061F99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CB5A0-10ED-4F0B-839B-CB89A2D7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A4BFA-6D60-438B-9B46-E07ABBFF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17E22-C327-4B6D-8B21-CA7015AF2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A7705-088E-49D0-934A-DD37814BC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CF8E0-846B-4D42-8259-AED58D04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2FDFF-A786-4293-BF08-2557FE0E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A532D-4C49-498E-A526-129CA9C8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D1E1F-6930-4261-BEBB-CA68E667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DF6B5-3742-4CE6-BCF6-11A1D3B9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26B42-F6E3-4A67-9B69-BA805195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2CE3-366C-420C-9810-0A7A17DF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4BCF6-9EC5-418A-9CAB-B5952686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9ECE3-51D0-41AD-8480-36191108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58747-FA33-4578-A8D1-74B4BCF0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63CA0-5AC3-473E-9D36-FC520E5D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AA1AF-E803-4AB7-BC92-905696855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3E38B-7AE0-4B12-BF06-2BBAF3207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CAABD-A778-428C-9CC8-577374A2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31DFC-0F3C-49B9-974E-27E7CE32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EDEBE-5F5E-4D80-A2BD-8884A474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97B5F-83FF-418B-A019-32A9DAD4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D195-7C03-41FB-A05D-751649A5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D5543-2436-4B4B-B8E2-238D1A1F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D97AC-EFDD-4ED9-AB8F-81851168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DD149-882C-45D9-8E00-73745BE4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D6B7D-4913-4312-8DB4-36E499F6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69AE9-E1F7-413E-80A8-9C8271C8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3D2C6-3EFA-4251-9643-02085BF8A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309E3-1F60-418C-8EDD-D23CD2341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3408B-F16A-437E-82C9-F91362960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1D303-9637-485F-B9B8-19452C49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F46C7-2838-4AF3-B633-6EC304E1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508893-C62F-4608-91B6-84E2ACCE593C}" type="slidenum">
              <a:rPr b="0" lang="pt-BR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6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0C6633-9524-48E9-ADAC-04506A09AF75}" type="slidenum">
              <a:rPr b="0" lang="pt-BR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6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C075ED-4E4F-4246-83E6-8C0A9D2B6911}" type="slidenum">
              <a:rPr b="0" lang="pt-BR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6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FA6E9D-DB1A-44C7-B967-24E0127D5B89}" type="slidenum">
              <a:rPr b="0" lang="pt-BR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6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E5ED5B-6CC1-4284-A011-A940F3F7DBC4}" type="slidenum">
              <a:rPr b="0" lang="pt-BR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6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751934-5B1C-429F-AB3D-75B0A31CFBC6}" type="slidenum">
              <a:rPr b="0" lang="pt-BR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6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805940-8C3F-46B1-BD6A-7267C382B6ED}" type="slidenum">
              <a:rPr b="0" lang="pt-BR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6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7599DD-956A-4237-A180-EDA04E917AAC}" type="slidenum">
              <a:rPr b="0" lang="pt-BR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6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14ED6C-FAA2-4A79-BF58-5257C22BD724}" type="slidenum">
              <a:rPr b="0" lang="pt-BR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E2FB46-A0E6-4F63-81FA-24F7CEE19299}" type="slidenum">
              <a:rPr b="0" lang="pt-BR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6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7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7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5360" y="494640"/>
                <a:ext cx="3310920" cy="48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8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8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3080" y="807840"/>
                <a:ext cx="2718720" cy="425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1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9BBF24-86CE-4971-ABFC-5C5276DA6C25}" type="slidenum">
              <a:rPr b="0" lang="pt-BR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395080" y="801720"/>
            <a:ext cx="5619960" cy="25416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 MT"/>
              </a:rPr>
              <a:t>AMIDEAST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395080" y="3530160"/>
            <a:ext cx="5619960" cy="978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ELEMENTARY 4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SESSION ONE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4" descr=""/>
          <p:cNvPicPr/>
          <p:nvPr/>
        </p:nvPicPr>
        <p:blipFill>
          <a:blip r:embed="rId1"/>
          <a:stretch/>
        </p:blipFill>
        <p:spPr>
          <a:xfrm>
            <a:off x="2484360" y="765000"/>
            <a:ext cx="3888000" cy="369576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5"/>
          <p:cNvSpPr/>
          <p:nvPr/>
        </p:nvSpPr>
        <p:spPr>
          <a:xfrm>
            <a:off x="324000" y="501336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Kristen ITC"/>
              </a:rPr>
              <a:t>He’s cooking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8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4392720" cy="374940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18"/>
          <p:cNvSpPr/>
          <p:nvPr/>
        </p:nvSpPr>
        <p:spPr>
          <a:xfrm>
            <a:off x="324000" y="501336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Kristen ITC"/>
              </a:rPr>
              <a:t>She’s playing tennis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4" descr=""/>
          <p:cNvPicPr/>
          <p:nvPr/>
        </p:nvPicPr>
        <p:blipFill>
          <a:blip r:embed="rId1"/>
          <a:stretch/>
        </p:blipFill>
        <p:spPr>
          <a:xfrm>
            <a:off x="2627280" y="765000"/>
            <a:ext cx="3038400" cy="3959280"/>
          </a:xfrm>
          <a:prstGeom prst="rect">
            <a:avLst/>
          </a:prstGeom>
          <a:ln w="0">
            <a:noFill/>
          </a:ln>
        </p:spPr>
      </p:pic>
      <p:sp>
        <p:nvSpPr>
          <p:cNvPr id="533" name="Text Box 5"/>
          <p:cNvSpPr/>
          <p:nvPr/>
        </p:nvSpPr>
        <p:spPr>
          <a:xfrm>
            <a:off x="611280" y="501336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Kristen ITC"/>
              </a:rPr>
              <a:t>He’s eating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4" descr=""/>
          <p:cNvPicPr/>
          <p:nvPr/>
        </p:nvPicPr>
        <p:blipFill>
          <a:blip r:embed="rId1"/>
          <a:stretch/>
        </p:blipFill>
        <p:spPr>
          <a:xfrm>
            <a:off x="2771640" y="476280"/>
            <a:ext cx="3176640" cy="410364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5"/>
          <p:cNvSpPr/>
          <p:nvPr/>
        </p:nvSpPr>
        <p:spPr>
          <a:xfrm>
            <a:off x="324000" y="501336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Kristen ITC"/>
              </a:rPr>
              <a:t>He’s playing baseball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192720" cy="244656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5"/>
          <p:cNvSpPr/>
          <p:nvPr/>
        </p:nvSpPr>
        <p:spPr>
          <a:xfrm>
            <a:off x="324000" y="501336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Kristen ITC"/>
              </a:rPr>
              <a:t>He’s swimming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4" descr=""/>
          <p:cNvPicPr/>
          <p:nvPr/>
        </p:nvPicPr>
        <p:blipFill>
          <a:blip r:embed="rId1"/>
          <a:stretch/>
        </p:blipFill>
        <p:spPr>
          <a:xfrm>
            <a:off x="2268360" y="1125360"/>
            <a:ext cx="4465800" cy="328140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5"/>
          <p:cNvSpPr/>
          <p:nvPr/>
        </p:nvSpPr>
        <p:spPr>
          <a:xfrm>
            <a:off x="324000" y="501336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Kristen ITC"/>
              </a:rPr>
              <a:t>He’s painting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4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3102120" cy="410364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5"/>
          <p:cNvSpPr/>
          <p:nvPr/>
        </p:nvSpPr>
        <p:spPr>
          <a:xfrm>
            <a:off x="324000" y="5013360"/>
            <a:ext cx="88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Kristen ITC"/>
              </a:rPr>
              <a:t>She’s doing gymnastics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2411280" y="765000"/>
            <a:ext cx="4104000" cy="327528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5"/>
          <p:cNvSpPr/>
          <p:nvPr/>
        </p:nvSpPr>
        <p:spPr>
          <a:xfrm>
            <a:off x="324000" y="501336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Kristen ITC"/>
              </a:rPr>
              <a:t>He’s playing soccer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4" descr=""/>
          <p:cNvPicPr/>
          <p:nvPr/>
        </p:nvPicPr>
        <p:blipFill>
          <a:blip r:embed="rId1"/>
          <a:stretch/>
        </p:blipFill>
        <p:spPr>
          <a:xfrm>
            <a:off x="2050920" y="620640"/>
            <a:ext cx="4276800" cy="377028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5"/>
          <p:cNvSpPr/>
          <p:nvPr/>
        </p:nvSpPr>
        <p:spPr>
          <a:xfrm>
            <a:off x="324000" y="501336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Kristen ITC"/>
              </a:rPr>
              <a:t>He’s fishing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4" descr=""/>
          <p:cNvPicPr/>
          <p:nvPr/>
        </p:nvPicPr>
        <p:blipFill>
          <a:blip r:embed="rId1"/>
          <a:stretch/>
        </p:blipFill>
        <p:spPr>
          <a:xfrm>
            <a:off x="3059280" y="765000"/>
            <a:ext cx="2865240" cy="381636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5"/>
          <p:cNvSpPr/>
          <p:nvPr/>
        </p:nvSpPr>
        <p:spPr>
          <a:xfrm>
            <a:off x="324000" y="501336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Kristen ITC"/>
              </a:rPr>
              <a:t>He’s reading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CH ONE IS CORREC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he is at the doo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he is on the doo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e is in a part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e is at a part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program was on TV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program was in TV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3200" spc="-1" strike="noStrike">
                <a:solidFill>
                  <a:srgbClr val="ff0066"/>
                </a:solidFill>
                <a:latin typeface="Kristen ITC"/>
              </a:rPr>
              <a:t>DIALOGU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Kristen ITC"/>
              </a:rPr>
              <a:t>A: What do you do every day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Kristen ITC"/>
              </a:rPr>
              <a:t>B: ........................... and .........................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Kristen ITC"/>
              </a:rPr>
              <a:t>A: What are you doing now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Kristen ITC"/>
              </a:rPr>
              <a:t>B: I am ............................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50" name="Picture 4" descr=""/>
          <p:cNvPicPr/>
          <p:nvPr/>
        </p:nvPicPr>
        <p:blipFill>
          <a:blip r:embed="rId1"/>
          <a:stretch/>
        </p:blipFill>
        <p:spPr>
          <a:xfrm>
            <a:off x="6948360" y="3573360"/>
            <a:ext cx="13892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3" name="Content Placeholder 4" descr=""/>
          <p:cNvPicPr/>
          <p:nvPr/>
        </p:nvPicPr>
        <p:blipFill>
          <a:blip r:embed="rId1"/>
          <a:stretch/>
        </p:blipFill>
        <p:spPr>
          <a:xfrm>
            <a:off x="468360" y="249120"/>
            <a:ext cx="821844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CH ONE IS CORREC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Gill Sans MT"/>
              </a:rPr>
              <a:t>She is at the doo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he is on the doo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e is in a part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Gill Sans MT"/>
              </a:rPr>
              <a:t>He is at a part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Gill Sans MT"/>
              </a:rPr>
              <a:t>The program was on TV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program was in TV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1442880" y="804960"/>
          <a:ext cx="6572520" cy="5000400"/>
        </p:xfrm>
        <a:graphic>
          <a:graphicData uri="http://schemas.openxmlformats.org/drawingml/2006/table">
            <a:tbl>
              <a:tblPr/>
              <a:tblGrid>
                <a:gridCol w="2190960"/>
                <a:gridCol w="2190600"/>
                <a:gridCol w="21909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1e4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1e4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1e42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y car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c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 party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c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y way hom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ccf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 meeting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ork / hom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he trai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9"/>
                    </a:solidFill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e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c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he airport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c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acatio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ccf"/>
                    </a:solidFill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afé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he bus stop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he bu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9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y offic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c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chool / colleg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c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ccf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ow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Jenny’s hous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9"/>
                    </a:solidFill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he store / the kitche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c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c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c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42520" y="1988640"/>
            <a:ext cx="657252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KE 10 SENTENCES ABOUT YOU OR YOUR FRIENDS USING PREPOSITIONS OF PLAC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835280" y="458136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5900" spc="-1" strike="noStrike">
                <a:solidFill>
                  <a:srgbClr val="ffffff"/>
                </a:solidFill>
                <a:latin typeface="Kristen ITC"/>
              </a:rPr>
              <a:t>WHAT ARE THEY DOING?</a:t>
            </a:r>
            <a:endParaRPr b="0" lang="en-US" sz="5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20" name="Picture 4" descr=""/>
          <p:cNvPicPr/>
          <p:nvPr/>
        </p:nvPicPr>
        <p:blipFill>
          <a:blip r:embed="rId1"/>
          <a:stretch/>
        </p:blipFill>
        <p:spPr>
          <a:xfrm>
            <a:off x="539640" y="3860640"/>
            <a:ext cx="1908360" cy="24498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"/>
          <p:cNvPicPr/>
          <p:nvPr/>
        </p:nvPicPr>
        <p:blipFill>
          <a:blip r:embed="rId2"/>
          <a:stretch/>
        </p:blipFill>
        <p:spPr>
          <a:xfrm>
            <a:off x="6372360" y="620640"/>
            <a:ext cx="1724040" cy="29527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" descr=""/>
          <p:cNvPicPr/>
          <p:nvPr/>
        </p:nvPicPr>
        <p:blipFill>
          <a:blip r:embed="rId3"/>
          <a:stretch/>
        </p:blipFill>
        <p:spPr>
          <a:xfrm>
            <a:off x="3276720" y="836640"/>
            <a:ext cx="2293920" cy="295272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"/>
          <p:cNvPicPr/>
          <p:nvPr/>
        </p:nvPicPr>
        <p:blipFill>
          <a:blip r:embed="rId4"/>
          <a:stretch/>
        </p:blipFill>
        <p:spPr>
          <a:xfrm>
            <a:off x="611280" y="549360"/>
            <a:ext cx="206856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4" descr=""/>
          <p:cNvPicPr/>
          <p:nvPr/>
        </p:nvPicPr>
        <p:blipFill>
          <a:blip r:embed="rId1"/>
          <a:stretch/>
        </p:blipFill>
        <p:spPr>
          <a:xfrm>
            <a:off x="3348000" y="1268280"/>
            <a:ext cx="2430360" cy="316872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5"/>
          <p:cNvSpPr/>
          <p:nvPr/>
        </p:nvSpPr>
        <p:spPr>
          <a:xfrm>
            <a:off x="324000" y="465300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Kristen ITC"/>
              </a:rPr>
              <a:t>She’s taking a picture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4" descr=""/>
          <p:cNvPicPr/>
          <p:nvPr/>
        </p:nvPicPr>
        <p:blipFill>
          <a:blip r:embed="rId1"/>
          <a:stretch/>
        </p:blipFill>
        <p:spPr>
          <a:xfrm>
            <a:off x="2700360" y="907920"/>
            <a:ext cx="3808440" cy="301320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5"/>
          <p:cNvSpPr/>
          <p:nvPr/>
        </p:nvSpPr>
        <p:spPr>
          <a:xfrm>
            <a:off x="539640" y="465300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Kristen ITC"/>
              </a:rPr>
              <a:t>He’s using the computer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10:44:47Z</dcterms:created>
  <dc:creator>Cliente</dc:creator>
  <dc:description/>
  <dc:language>en-US</dc:language>
  <cp:lastModifiedBy>heba hanafy</cp:lastModifiedBy>
  <dcterms:modified xsi:type="dcterms:W3CDTF">2025-04-09T17:49:34Z</dcterms:modified>
  <cp:revision>12</cp:revision>
  <dc:subject/>
  <dc:title>Slide 1</dc:title>
</cp:coreProperties>
</file>